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2ECFA-4291-4EC4-92B8-0A674E9A9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BC5B1-2014-479F-8E1C-B4F159197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7FCBC-28C8-4379-8FED-997CCAF7E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73D90-2164-4A1E-8C7B-80A8CC9D7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E4708-3214-4699-8AC3-946844CBA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B2C8E-FDEF-40AB-9A3F-E9F27CB8A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24CE1-43C3-4734-BA48-8D246AA31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305AA-1EF2-44D4-ABE4-A4DFF16B0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F591F-289C-4A5B-AAFA-4860D456C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FB68C-E9E1-4355-A6EE-03945315B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9D1D7-AFFA-42E0-88DC-CD90722DD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7AD10-4985-4FAF-BD5A-C26425E1D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85BFA-D3D7-45DC-A0C6-7149F24B4ECA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경상 병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경상병원과 노인병원 두 곳을 돌아가면서 실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병원 각각 운동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작업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통증 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경상병원의 운동치료실과 통증치료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노인병원을 각각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씩 돌아가기 때문에 총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에서 어디에서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를 할지 모름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교통편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셔틀버스이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버스이용은 힘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복장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가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면바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슬리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머리 단정히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무시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월 달은 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금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5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월 달은 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금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5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점심시간은 경상병원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노인병원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식비는 공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소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경상병원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실습담당선생님이 있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운동치료실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옆에 서서 관찰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환자를 맡기지 않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transfer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도 안함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전담하는 관리사가 있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통증치료실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기계사용 못하고 정리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대구대 졸업선배는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노인병원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선생님이 하루씩 돌아가며 실습생 맡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운동치료실과 통증치료실이 한 공간에 있으며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학생은 관찰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치매환자분과 상황극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연차 제일 높은 선생님이 대구대 졸업선배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레포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경상병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인데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OA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로 대신하기도 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통증치료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노인병원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두 곳 다 특별한 강의는 없음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마지막 주에 정해준 논문 번역 발표함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보건대 출신쌤이 많아서 잘 챙겨주지 않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환자 케이스가 많이 부족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계 편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환자를 직접 만질 기회가 없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장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다른 공부 하고 싶은 분 추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널널하게 실습하고 싶은 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과제 검사 까다롭지 않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3:21:46Z</dcterms:created>
  <dc:creator>경상대 컴퓨터실 프린터</dc:creator>
  <dc:description/>
  <dc:language>en-US</dc:language>
  <cp:lastModifiedBy>Staff</cp:lastModifiedBy>
  <dcterms:modified xsi:type="dcterms:W3CDTF">2009-04-11T08:04:56Z</dcterms:modified>
  <cp:revision>3</cp:revision>
  <dc:subject/>
  <dc:title>경상병원</dc:title>
</cp:coreProperties>
</file>